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F510D-3932-4BED-AA64-8D4B3F1FE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793EC-49F3-4CAA-AE02-7B08F6D8E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BFCDB-B2CB-4846-AFC8-281EFC74C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94288-6F29-4E10-A17C-15F415A37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BD84F-741B-4819-ACA8-32646C5F7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B5175-8A79-490A-B3F6-9083C2EF1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C0ED8-C676-4466-90A4-1DE0DD5BA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CE6EE-5B9F-4BEC-B575-4D7D45048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0626D-1B2A-4D74-8097-67B9E7A77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8C1E3-7538-44EB-9A8E-51059A6A9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D80B8-95E7-4CBC-BDFF-4119B1B7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69746-AD97-47B7-BD4D-BB89981B1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1D796-C575-42AF-82FF-9DDB792B3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6154F-12B3-4576-AE15-863B5991F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C34ED-D970-4049-B73A-A06FA206D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65C2D-D7C6-4DAF-BC32-E313BD0BD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96C25-EE78-4DDC-94BF-578E9210C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1DD4C-FE42-47A9-A633-F93CDC375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6814C-CF04-441F-9FED-124DAD9AC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87066-65DF-4DC9-B385-98D949632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C6BEB-9B0C-47C7-BF42-558A92169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A5675-1DBC-4A6A-8816-171F3997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78631-3526-4FB6-9D16-5D3B79D6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2E8CD-831D-48C7-B570-253DD7528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DBC26-0437-4550-A5AC-C50F20EA0205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DEB23-4E1D-401A-B829-BC0B51C78FC9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CH300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roduction to Educational Techn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r. Alaa Sadik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partment of Instructional &amp; Learning Technologi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www.alaasadik.ne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laasadik@squ.edu.o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693800" y="2276640"/>
            <a:ext cx="646200" cy="720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116000" y="2924280"/>
            <a:ext cx="646200" cy="720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539640" y="3573360"/>
            <a:ext cx="646200" cy="720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2268360" y="1628640"/>
            <a:ext cx="64620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ual Literacy (V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864216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3. Enhancing student’s visual literacy: H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800000"/>
                </a:solidFill>
                <a:latin typeface="Arial"/>
              </a:rPr>
              <a:t>By asking your students the right questions, they can learn to read and discover the story behind the image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ual Literacy (V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864216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3. Enhancing student’s visual literacy: H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information is conveyed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s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ress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lothing worn in the photograp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backgrou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use of prop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ual Literacy (V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864216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3. Enhancing student’s visual literacy: H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Who created the ima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Who is the audience of the ima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For what purpose was the image crea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What is the message of the ima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Why was the image arranged that w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ual Literacy (V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864216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4. Student objectives/r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actice the skills of observing and interpreting photograph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nsform visual information into strong descriptive langu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/create images that describe/illustrate a specific point of view or iss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1988640"/>
            <a:ext cx="822960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Visual Elements</a:t>
            </a:r>
            <a:br>
              <a:rPr sz="3600"/>
            </a:b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Syntax and Semant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7d"/>
                </a:solidFill>
                <a:latin typeface="Arial"/>
              </a:rPr>
              <a:t>Visual Elements: Syntax and Semantic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864216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The Language of Visual Lite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Visuals are a </a:t>
            </a:r>
            <a:r>
              <a:rPr b="0" lang="en-US" sz="3200" spc="-1" strike="noStrike" u="sng">
                <a:solidFill>
                  <a:srgbClr val="00007d"/>
                </a:solidFill>
                <a:uFillTx/>
                <a:latin typeface="Arial"/>
              </a:rPr>
              <a:t>language</a:t>
            </a: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 that allow us to produce and communicate thoughts and images about rea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The symbols used in visual communication </a:t>
            </a:r>
            <a:r>
              <a:rPr b="0" lang="en-US" sz="3200" spc="-1" strike="noStrike" u="sng">
                <a:solidFill>
                  <a:srgbClr val="00007d"/>
                </a:solidFill>
                <a:uFillTx/>
                <a:latin typeface="Arial"/>
              </a:rPr>
              <a:t>are not a fixed vocabulary (dictionary)</a:t>
            </a: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7d"/>
                </a:solidFill>
                <a:latin typeface="Arial"/>
              </a:rPr>
              <a:t>Visual Elements: Syntax and Semantic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864216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The Language of Visual Lite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Visual communication is made up of symbols whose </a:t>
            </a:r>
            <a:r>
              <a:rPr b="0" lang="en-US" sz="3200" spc="-1" strike="noStrike" u="sng">
                <a:solidFill>
                  <a:srgbClr val="00007d"/>
                </a:solidFill>
                <a:uFillTx/>
                <a:latin typeface="Arial"/>
              </a:rPr>
              <a:t>meaning results from their context</a:t>
            </a: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A visual meaning is formed by </a:t>
            </a:r>
            <a:r>
              <a:rPr b="0" lang="en-US" sz="3200" spc="-1" strike="noStrike" u="sng">
                <a:solidFill>
                  <a:srgbClr val="00007d"/>
                </a:solidFill>
                <a:uFillTx/>
                <a:latin typeface="Arial"/>
              </a:rPr>
              <a:t>seeing and thinking</a:t>
            </a: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7d"/>
                </a:solidFill>
                <a:latin typeface="Arial"/>
              </a:rPr>
              <a:t>Visual Elements: Syntax and Semantic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864216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Visual Seman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Semantic is </a:t>
            </a:r>
            <a:r>
              <a:rPr b="0" lang="en-GB" sz="2800" spc="-1" strike="noStrike">
                <a:solidFill>
                  <a:srgbClr val="00007d"/>
                </a:solidFill>
                <a:latin typeface="Arial"/>
              </a:rPr>
              <a:t>the study of language </a:t>
            </a:r>
            <a:r>
              <a:rPr b="0" lang="en-GB" sz="2800" spc="-1" strike="noStrike" u="sng">
                <a:solidFill>
                  <a:srgbClr val="00007d"/>
                </a:solidFill>
                <a:uFillTx/>
                <a:latin typeface="Arial"/>
              </a:rPr>
              <a:t>meaning</a:t>
            </a:r>
            <a:r>
              <a:rPr b="0" lang="en-GB" sz="28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Arial"/>
              </a:rPr>
              <a:t>Visual semantics are the cultural, communicative and social signs relate to mea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Arial"/>
              </a:rPr>
              <a:t>Examples of visual semantics signs includes:</a:t>
            </a:r>
            <a:br>
              <a:rPr sz="2800"/>
            </a:br>
            <a:r>
              <a:rPr b="0" i="1" lang="en-GB" sz="2800" spc="-1" strike="noStrike">
                <a:solidFill>
                  <a:srgbClr val="800000"/>
                </a:solidFill>
                <a:latin typeface="Arial"/>
              </a:rPr>
              <a:t>purpose, photo creator, date &amp; time of shooting, purpose, context, audience, relationship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7d"/>
                </a:solidFill>
                <a:latin typeface="Arial"/>
              </a:rPr>
              <a:t>Visual Elements: Syntax and Semantic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864216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Visual Synt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Arial"/>
              </a:rPr>
              <a:t>Syntax is the grammatical </a:t>
            </a:r>
            <a:r>
              <a:rPr b="0" lang="en-GB" sz="2800" spc="-1" strike="noStrike" u="sng">
                <a:solidFill>
                  <a:srgbClr val="00007d"/>
                </a:solidFill>
                <a:uFillTx/>
                <a:latin typeface="Arial"/>
              </a:rPr>
              <a:t>arrangement </a:t>
            </a:r>
            <a:r>
              <a:rPr b="0" lang="en-GB" sz="2800" spc="-1" strike="noStrike">
                <a:solidFill>
                  <a:srgbClr val="00007d"/>
                </a:solidFill>
                <a:latin typeface="Arial"/>
              </a:rPr>
              <a:t>of words in sentenc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Arial"/>
              </a:rPr>
              <a:t>VL syntax is the form of building of blocks of an image. These blocks are called </a:t>
            </a:r>
            <a:r>
              <a:rPr b="0" i="1" lang="en-GB" sz="2800" spc="-1" strike="noStrike">
                <a:solidFill>
                  <a:srgbClr val="800000"/>
                </a:solidFill>
                <a:latin typeface="Arial"/>
              </a:rPr>
              <a:t>visual elements</a:t>
            </a:r>
            <a:r>
              <a:rPr b="0" lang="en-GB" sz="28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Arial"/>
              </a:rPr>
              <a:t>Examples of visual elements includes:</a:t>
            </a:r>
            <a:br>
              <a:rPr sz="2800"/>
            </a:br>
            <a:r>
              <a:rPr b="0" i="1" lang="en-GB" sz="2800" spc="-1" strike="noStrike">
                <a:solidFill>
                  <a:srgbClr val="800000"/>
                </a:solidFill>
                <a:latin typeface="Arial"/>
              </a:rPr>
              <a:t>scale, dimension, arrangements, framing, motion, colour, light, shadow, juxtaposition, relative size, foreground, backgroun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7d"/>
                </a:solidFill>
                <a:latin typeface="Arial"/>
              </a:rPr>
              <a:t>Visual Elemen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864216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Main Visual Elements (visual synta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Fra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Ligh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Contra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S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693800" y="2276640"/>
            <a:ext cx="646200" cy="7207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CH3008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roduction to Educational Techn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050920" y="4266720"/>
            <a:ext cx="694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9900"/>
                </a:solidFill>
                <a:latin typeface="Arial"/>
              </a:rPr>
              <a:t>Presentation Four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isual Principles II: Visual Literac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116000" y="2924280"/>
            <a:ext cx="646200" cy="7207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539640" y="3573360"/>
            <a:ext cx="646200" cy="7207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2268360" y="1628640"/>
            <a:ext cx="64620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7d"/>
                </a:solidFill>
                <a:latin typeface="Arial"/>
              </a:rPr>
              <a:t>Visual Elemen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864216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Main Visual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Fra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Arial"/>
              </a:rPr>
              <a:t>A technique used to bring the focus and depth to the subject and objec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Arial"/>
              </a:rPr>
              <a:t>What is included and excluded in an individual sh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Arial"/>
              </a:rPr>
              <a:t>The photographer’s determination of what the edges of a photograph will b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7d"/>
                </a:solidFill>
                <a:latin typeface="Arial"/>
              </a:rPr>
              <a:t>Visual Elemen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864216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Main Visual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Fra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0000"/>
                </a:solidFill>
                <a:latin typeface="Arial"/>
              </a:rPr>
              <a:t>A wonderful scene, fram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0000"/>
                </a:solidFill>
                <a:latin typeface="Arial"/>
              </a:rPr>
              <a:t>by a window fr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492360" y="2711520"/>
            <a:ext cx="5370480" cy="39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7d"/>
                </a:solidFill>
                <a:latin typeface="Arial"/>
              </a:rPr>
              <a:t>Visual Elemen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864216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Main Visual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Fra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0000"/>
                </a:solidFill>
                <a:latin typeface="Arial"/>
              </a:rPr>
              <a:t>A party attender, fram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0000"/>
                </a:solidFill>
                <a:latin typeface="Arial"/>
              </a:rPr>
              <a:t>by her frie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276720" y="2997360"/>
            <a:ext cx="5565600" cy="36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7d"/>
                </a:solidFill>
                <a:latin typeface="Arial"/>
              </a:rPr>
              <a:t>Visual Elemen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864216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Main Visual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Fra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0000"/>
                </a:solidFill>
                <a:latin typeface="Arial"/>
              </a:rPr>
              <a:t>A beautiful sunset, naturally fram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0000"/>
                </a:solidFill>
                <a:latin typeface="Arial"/>
              </a:rPr>
              <a:t>by the clou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635280" y="2657520"/>
            <a:ext cx="52786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7d"/>
                </a:solidFill>
                <a:latin typeface="Arial"/>
              </a:rPr>
              <a:t>Visual Elemen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864216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Main Visual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Arial"/>
              </a:rPr>
              <a:t>The direction from which the artist photographs the subjec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Arial"/>
              </a:rPr>
              <a:t>A technique used to change/improve the look of objects by using different camera dire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Arial"/>
              </a:rPr>
              <a:t>Angles are used to convey different information and feelings about the same su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7d"/>
                </a:solidFill>
                <a:latin typeface="Arial"/>
              </a:rPr>
              <a:t>Visual Elemen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864216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Main Visual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0000"/>
                </a:solidFill>
                <a:latin typeface="Arial"/>
              </a:rPr>
              <a:t>If you like to sell your car, capture a go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0000"/>
                </a:solidFill>
                <a:latin typeface="Arial"/>
              </a:rPr>
              <a:t>photos from an appropriate ang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635280" y="2725560"/>
            <a:ext cx="5232600" cy="39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7d"/>
                </a:solidFill>
                <a:latin typeface="Arial"/>
              </a:rPr>
              <a:t>Visual Elemen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864216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Main Visual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Looks gre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564000" y="3040200"/>
            <a:ext cx="533880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7d"/>
                </a:solidFill>
                <a:latin typeface="Arial"/>
              </a:rPr>
              <a:t>Visual Elemen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864216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Main Visual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Looks gre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003640" y="1916280"/>
            <a:ext cx="379116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7d"/>
                </a:solidFill>
                <a:latin typeface="Arial"/>
              </a:rPr>
              <a:t>Visual Elemen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864216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Main Visual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Looks young but ambitious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811680" y="3373560"/>
            <a:ext cx="5332320" cy="34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7d"/>
                </a:solidFill>
                <a:latin typeface="Arial"/>
              </a:rPr>
              <a:t>Visual Elemen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864216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Main Visual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Looks more beautifu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851280" y="3068640"/>
            <a:ext cx="4927680" cy="35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50920" y="1981080"/>
            <a:ext cx="864216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Using optical &amp; digital images in educ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H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7d"/>
                </a:solidFill>
                <a:latin typeface="Arial"/>
              </a:rPr>
              <a:t>Visual Elemen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864216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Main Visual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Looks br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707080" y="1773360"/>
            <a:ext cx="3200400" cy="48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7d"/>
                </a:solidFill>
                <a:latin typeface="Arial"/>
              </a:rPr>
              <a:t>Visual Elemen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864216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Main Visual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Looks gre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284720" y="2322360"/>
            <a:ext cx="4575240" cy="43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7d"/>
                </a:solidFill>
                <a:latin typeface="Arial"/>
              </a:rPr>
              <a:t>Visual Elemen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864216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Main Visual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284720" y="2778120"/>
            <a:ext cx="460836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7d"/>
                </a:solidFill>
                <a:latin typeface="Arial"/>
              </a:rPr>
              <a:t>Visual Elemen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864216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Main Visual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419640" y="2997360"/>
            <a:ext cx="548640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7d"/>
                </a:solidFill>
                <a:latin typeface="Arial"/>
              </a:rPr>
              <a:t>Visual Elemen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864216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Main Visual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Ligh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ghting is a technique used to imply a mood/emo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ry contrasting lighting (dark shadows, bright highlights) is more dramatic than a soft gentle ligh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ghting and shadows also provide clues to the figuring out the larger setting and time of day the shot was tak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7d"/>
                </a:solidFill>
                <a:latin typeface="Arial"/>
              </a:rPr>
              <a:t>Visual Elemen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864216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Main Visual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Ligh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3924360" y="2944800"/>
            <a:ext cx="498168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7d"/>
                </a:solidFill>
                <a:latin typeface="Arial"/>
              </a:rPr>
              <a:t>Visual Elemen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864216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Main Visual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Ligh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564000" y="2852640"/>
            <a:ext cx="5408640" cy="38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Activ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864216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A. Find ima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B. Define and describe ima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C. Content &amp; image analysis (various student books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D. 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Using Images to create a visual story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iscussions 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&amp;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250920" y="1981080"/>
            <a:ext cx="864216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Using optical &amp; digital images in education: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arner preferences and styles can more effectively be addres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hanced learning and retention take place through the use of visual mater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ring deeper understanding to complex subject mat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lp students focus atten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rove the decision-making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eed adoption of major ch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tivate learn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50920" y="1981080"/>
            <a:ext cx="864216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Using optical &amp; digital images in education: H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ra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slet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V scr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age C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ual Literacy (V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864216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Defining Visual Lite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ual Literacy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ans being able to read and compose images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ability to discriminate and interpret visual actions, objects and other images, while gaining meaning from th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ual Literacy (V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864216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Defining Visual Lite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isual literacy skills are required for effective learning and teaching via images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ual Literacy (V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864216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The importance of Visual Lite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L uses images to teach critical and creative thinking, communication and visual litera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L increases student competence in constructing meaning from images that incorporate various curriculum-based subje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L helps students sharpen their powers of observ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ual Literacy (V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864216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The importance of Visual Lite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L increases ability to locate information, analyze, reason and form conclusions about the photogra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L opens up new worlds for students and engages them to write in more meaningful way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L helps students to think more consciously about the details they s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1T03:58:21Z</dcterms:created>
  <dc:creator>Alaa Sadik</dc:creator>
  <dc:description/>
  <dc:language>en-US</dc:language>
  <cp:lastModifiedBy>College OF Education</cp:lastModifiedBy>
  <dcterms:modified xsi:type="dcterms:W3CDTF">2008-10-07T08:52:14Z</dcterms:modified>
  <cp:revision>97</cp:revision>
  <dc:subject/>
  <dc:title>Instructional Computer  TECH2111</dc:title>
</cp:coreProperties>
</file>